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287-9730-4C99-A2B7-5A2926A0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3F5-047C-4281-B394-D7E9390A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E94-5B1F-4764-8C5F-9B82D3F0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DB3-B70A-4FDA-8033-8BE78B26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E9F-A3B5-42C8-BB67-F7FE037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9A1-0647-43B1-9E1F-64C0607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AF2-6B9E-48DA-97B8-C9E411EF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51F-456C-4859-B4E4-B909CE3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A1A-55FC-4EB5-AF96-E796B3BC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0E1-4B14-4E3A-92CF-14890592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2AA-06FE-4BC2-AD53-06CAB41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6BB-1C9C-4495-AC24-794540E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2F5-8F78-4811-B34F-CC645F02C8F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2/27/Red_Sea_37.95521E_21.41271N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5.xml"/><Relationship Id="rId3" Type="http://schemas.openxmlformats.org/officeDocument/2006/relationships/image" Target="../media/image2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image" Target="../media/image2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0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1.xml"/><Relationship Id="rId3" Type="http://schemas.openxmlformats.org/officeDocument/2006/relationships/image" Target="../media/image2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4.xml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image" Target="../media/image2.jpe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image" Target="../media/image14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niOkvir 1"/>
          <p:cNvSpPr/>
          <p:nvPr/>
        </p:nvSpPr>
        <p:spPr>
          <a:xfrm>
            <a:off x="1258920" y="162864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 putovanju oko Azije, od Crnog mora do Novaje Zemlje, klikom miša označi zadana mjesta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3071880" cy="33336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nextslide"/>
          </p:cNvPr>
          <p:cNvSpPr/>
          <p:nvPr/>
        </p:nvSpPr>
        <p:spPr>
          <a:xfrm>
            <a:off x="642960" y="48578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92360" y="459720"/>
            <a:ext cx="515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eski kanal je umjetni prokop dug 163 kilometara između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redozemnog i Crvenog mora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koji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zdvaja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frički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od 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zijskog kontin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nal je dobio i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po egipatskom  gradu Suezu, a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 promet 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e pušte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6. studenog.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69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od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Datoteka:Canal de Suez.jpg"/>
          <p:cNvPicPr/>
          <p:nvPr/>
        </p:nvPicPr>
        <p:blipFill>
          <a:blip r:embed="rId2"/>
          <a:stretch/>
        </p:blipFill>
        <p:spPr>
          <a:xfrm>
            <a:off x="3203640" y="3141720"/>
            <a:ext cx="55008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ve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>
            <a:hlinkClick r:id="rId5" action="ppaction://hlinksldjump"/>
          </p:cNvPr>
          <p:cNvSpPr/>
          <p:nvPr/>
        </p:nvSpPr>
        <p:spPr>
          <a:xfrm flipH="1" rot="3325200">
            <a:off x="416160" y="4435560"/>
            <a:ext cx="873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nextslide"/>
          </p:cNvPr>
          <p:cNvSpPr/>
          <p:nvPr/>
        </p:nvSpPr>
        <p:spPr>
          <a:xfrm>
            <a:off x="357120" y="471492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3"/>
          <p:cNvSpPr/>
          <p:nvPr/>
        </p:nvSpPr>
        <p:spPr>
          <a:xfrm>
            <a:off x="3929040" y="500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veno mo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je rubno more na sjeveru Indijskog oceana. Na sjevernom rubu mora je Sueski kanal kojim vodi plovni put u Sredozemno more, a južni rub mora čini tjesnac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ab el Mande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ji ga dijeli od Adenskog zalj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atoteka:Red Sea 37.95521E 21.41271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000240"/>
            <a:ext cx="48337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rapsko-perzij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>
            <a:hlinkClick r:id="rId4" action="ppaction://hlinksldjump"/>
          </p:cNvPr>
          <p:cNvSpPr/>
          <p:nvPr/>
        </p:nvSpPr>
        <p:spPr>
          <a:xfrm rot="1452000">
            <a:off x="1379520" y="41022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071880" cy="35481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428760" y="528624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786120" y="64908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 se na krajnjem sjeverozapadu ulijeva rijeka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Shatt al-Arab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koja nastaje spajanjem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Eufrata i Tigri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U zaljevu i obalnim područjima nalaze s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Calibri"/>
              </a:rPr>
              <a:t>brojna naftna nalaziš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lika 1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5246640" cy="321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ngalski zal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>
            <a:hlinkClick r:id="rId4" action="ppaction://hlinksldjump"/>
          </p:cNvPr>
          <p:cNvSpPr/>
          <p:nvPr/>
        </p:nvSpPr>
        <p:spPr>
          <a:xfrm>
            <a:off x="3635280" y="4653000"/>
            <a:ext cx="72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2857680" cy="28339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>
            <a:hlinkClick r:id="rId2" action="ppaction://hlinksldjump"/>
          </p:cNvPr>
          <p:cNvSpPr/>
          <p:nvPr/>
        </p:nvSpPr>
        <p:spPr>
          <a:xfrm>
            <a:off x="428760" y="550080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492360" y="709560"/>
            <a:ext cx="52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Bengalski zaljev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je okružen je na zapadu Šri Lankom i Indijom, a na sjeveru su Bangladeš i indijska savezna država </a:t>
            </a:r>
            <a:r>
              <a:rPr b="1" i="1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Zapadni Benga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Calibri"/>
              </a:rPr>
              <a:t>, po kojoj je zaljev dobio 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lika 4" descr=""/>
          <p:cNvPicPr/>
          <p:nvPr/>
        </p:nvPicPr>
        <p:blipFill>
          <a:blip r:embed="rId3"/>
          <a:stretch/>
        </p:blipFill>
        <p:spPr>
          <a:xfrm>
            <a:off x="4000680" y="2198520"/>
            <a:ext cx="39290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35720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rn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>
            <a:hlinkClick r:id="rId1" action="ppaction://hlinksldjump"/>
          </p:cNvPr>
          <p:cNvSpPr/>
          <p:nvPr/>
        </p:nvSpPr>
        <p:spPr>
          <a:xfrm>
            <a:off x="428760" y="2428920"/>
            <a:ext cx="78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sia-imag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>
            <a:hlinkClick r:id="rId3" action="ppaction://hlinksldjump"/>
          </p:cNvPr>
          <p:cNvSpPr/>
          <p:nvPr/>
        </p:nvSpPr>
        <p:spPr>
          <a:xfrm>
            <a:off x="179280" y="3068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708360" y="33336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ndaman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>
            <a:hlinkClick r:id="rId4" action="ppaction://hlinksldjump"/>
          </p:cNvPr>
          <p:cNvSpPr/>
          <p:nvPr/>
        </p:nvSpPr>
        <p:spPr>
          <a:xfrm>
            <a:off x="4211640" y="4941720"/>
            <a:ext cx="43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>
            <a:hlinkClick r:id="rId2" action="ppaction://hlinksldjump"/>
          </p:cNvPr>
          <p:cNvSpPr/>
          <p:nvPr/>
        </p:nvSpPr>
        <p:spPr>
          <a:xfrm>
            <a:off x="900000" y="429264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11640" y="836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nda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Burmans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dugo je otprilike 1200km u smjeru sjever-jug dok mu je širina oko 650km. Na svom južnom kraju oblikuje Malajski prolaz koji razdvaja Malajski poluotok od otoka Sumatre, a spaja Andamansko more sa Južnokineskim morem i Javanskim mo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>
            <a:hlinkClick r:id="rId4" action="ppaction://hlinksldjump"/>
          </p:cNvPr>
          <p:cNvSpPr/>
          <p:nvPr/>
        </p:nvSpPr>
        <p:spPr>
          <a:xfrm>
            <a:off x="5076720" y="6308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nextslide"/>
          </p:cNvPr>
          <p:cNvSpPr/>
          <p:nvPr/>
        </p:nvSpPr>
        <p:spPr>
          <a:xfrm>
            <a:off x="1332000" y="4724280"/>
            <a:ext cx="1912680" cy="1206720"/>
          </a:xfrm>
          <a:prstGeom prst="rightArrow">
            <a:avLst>
              <a:gd name="adj1" fmla="val 50000"/>
              <a:gd name="adj2" fmla="val 39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211640" y="836640"/>
            <a:ext cx="43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ima oko 127 milijuna (2004. ) stanovnika, više od bilo kojeg drugog otok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Sa gotovo 1.000 stanovnika po kvadratnom kilometru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Java je jedno od najgušće naseljenih područja na svijet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Na Javi se nalazi i glavni grad Indonezije, Jak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amč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>
            <a:hlinkClick r:id="rId4" action="ppaction://hlinksldjump"/>
          </p:cNvPr>
          <p:cNvSpPr/>
          <p:nvPr/>
        </p:nvSpPr>
        <p:spPr>
          <a:xfrm rot="7604400">
            <a:off x="8209440" y="2351880"/>
            <a:ext cx="458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3429000" cy="33339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" action="ppaction://hlinkshowjump?jump=nextslide"/>
          </p:cNvPr>
          <p:cNvSpPr/>
          <p:nvPr/>
        </p:nvSpPr>
        <p:spPr>
          <a:xfrm>
            <a:off x="642960" y="4786200"/>
            <a:ext cx="1913040" cy="1206720"/>
          </a:xfrm>
          <a:prstGeom prst="rightArrow">
            <a:avLst>
              <a:gd name="adj1" fmla="val 50000"/>
              <a:gd name="adj2" fmla="val 396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492360" y="130680"/>
            <a:ext cx="53578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luotok Kamčat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 je 1250 kilometara dug poluotok na Ruskom dalekom ist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je slabo naseljena.  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ulkani Kamčatke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uvršteni na </a:t>
            </a:r>
            <a:r>
              <a:rPr b="1" i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ESCO-ov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pis svjetske baštine. Najpoznatiji vulkan je </a:t>
            </a:r>
            <a:r>
              <a:rPr b="1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ljučevskaja Sopka</a:t>
            </a: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amčatka prima oko 2700 mm padalina godišnje. Ljeta su umjereno hladna, a zime su olu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Untitled 168"/>
          <p:cNvPicPr/>
          <p:nvPr/>
        </p:nvPicPr>
        <p:blipFill>
          <a:blip r:embed="rId2"/>
          <a:stretch/>
        </p:blipFill>
        <p:spPr>
          <a:xfrm>
            <a:off x="3357720" y="2500200"/>
            <a:ext cx="5352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>
            <a:hlinkClick r:id="rId1" action="ppaction://hlinksldjump"/>
          </p:cNvPr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kstniOkvir 6">
            <a:hlinkClick r:id="rId2" action="ppaction://hlinksldjump"/>
          </p:cNvPr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icture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eringov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>
            <a:hlinkClick r:id="rId5" action="ppaction://hlinksldjump"/>
          </p:cNvPr>
          <p:cNvSpPr/>
          <p:nvPr/>
        </p:nvSpPr>
        <p:spPr>
          <a:xfrm rot="7604400">
            <a:off x="6750720" y="-92880"/>
            <a:ext cx="6159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8">
            <a:hlinkClick r:id="rId2" action="ppaction://hlinksldjump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3">
            <a:hlinkClick r:id="" action="ppaction://hlinkshowjump?jump=nextslide"/>
          </p:cNvPr>
          <p:cNvSpPr/>
          <p:nvPr/>
        </p:nvSpPr>
        <p:spPr>
          <a:xfrm>
            <a:off x="500040" y="43578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429000" y="506520"/>
            <a:ext cx="521496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ringovo mor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nalazi između zapad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ja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SAD) i istočne obale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bi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(Rusija). Na sjeveru je Beringovim prolazom spojeno s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ktičkim oceano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Na zapadu Beringovo more završava na obalama sjevernog dijela poluotoka 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mčat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Untitled 169"/>
          <p:cNvPicPr/>
          <p:nvPr/>
        </p:nvPicPr>
        <p:blipFill>
          <a:blip r:embed="rId2"/>
          <a:stretch/>
        </p:blipFill>
        <p:spPr>
          <a:xfrm>
            <a:off x="3000240" y="2500200"/>
            <a:ext cx="56325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stočnosibirsk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 rot="7604400">
            <a:off x="5271480" y="274320"/>
            <a:ext cx="61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>
            <a:hlinkClick r:id="" action="ppaction://hlinkshowjump?jump=nextslide"/>
          </p:cNvPr>
          <p:cNvSpPr/>
          <p:nvPr/>
        </p:nvSpPr>
        <p:spPr>
          <a:xfrm>
            <a:off x="928800" y="4857840"/>
            <a:ext cx="1912680" cy="1206360"/>
          </a:xfrm>
          <a:prstGeom prst="rightArrow">
            <a:avLst>
              <a:gd name="adj1" fmla="val 50000"/>
              <a:gd name="adj2" fmla="val 39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43240" y="768600"/>
            <a:ext cx="4572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točnosibirsko more</a:t>
            </a: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je rubno more Arktičkog oce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re graniči sa Laptevskim morem na zapadu i Čukotskim morem na is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 flipH="1">
            <a:off x="9144000" y="214200"/>
            <a:ext cx="46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Untitled 167"/>
          <p:cNvPicPr/>
          <p:nvPr/>
        </p:nvPicPr>
        <p:blipFill>
          <a:blip r:embed="rId2"/>
          <a:stretch/>
        </p:blipFill>
        <p:spPr>
          <a:xfrm>
            <a:off x="3286080" y="3000240"/>
            <a:ext cx="5638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3643200" y="4500720"/>
            <a:ext cx="7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kstniOkvir 6"/>
          <p:cNvSpPr/>
          <p:nvPr/>
        </p:nvSpPr>
        <p:spPr>
          <a:xfrm>
            <a:off x="7429680" y="285840"/>
            <a:ext cx="1285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icture1"/>
          <p:cNvPicPr/>
          <p:nvPr/>
        </p:nvPicPr>
        <p:blipFill>
          <a:blip r:embed="rId1"/>
          <a:stretch/>
        </p:blipFill>
        <p:spPr>
          <a:xfrm>
            <a:off x="395280" y="71280"/>
            <a:ext cx="8209080" cy="678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95280" y="260280"/>
            <a:ext cx="3573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aja zem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 rot="8699400">
            <a:off x="3727080" y="1108080"/>
            <a:ext cx="4478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3429000" cy="33336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>
            <a:hlinkClick r:id="" action="ppaction://hlinkshowjump?jump=nextslide"/>
          </p:cNvPr>
          <p:cNvSpPr/>
          <p:nvPr/>
        </p:nvSpPr>
        <p:spPr>
          <a:xfrm>
            <a:off x="785880" y="457200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avokutnik 3"/>
          <p:cNvSpPr/>
          <p:nvPr/>
        </p:nvSpPr>
        <p:spPr>
          <a:xfrm>
            <a:off x="3929040" y="500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Novaja Zeml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  je otočje sastavljeno od dva velika otoka i većeg broja malih otoka, a smješteno je u Arktičkom ocean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aja Zemlja je nastavak 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ralskog gorj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Untitled 170"/>
          <p:cNvPicPr/>
          <p:nvPr/>
        </p:nvPicPr>
        <p:blipFill>
          <a:blip r:embed="rId2"/>
          <a:stretch/>
        </p:blipFill>
        <p:spPr>
          <a:xfrm>
            <a:off x="3924360" y="2349360"/>
            <a:ext cx="45003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kstniOkvir 1"/>
          <p:cNvSpPr/>
          <p:nvPr/>
        </p:nvSpPr>
        <p:spPr>
          <a:xfrm>
            <a:off x="1908000" y="907920"/>
            <a:ext cx="5110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ILI MLADI GEOGRAF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Š “Ivan Benković”, Dugo S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Filip Pandž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n Orl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rena Josipović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hael Crnčec 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ehmeti 6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rio Matić 6.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entor: Marina Periša, pr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stopad,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7120" y="2406600"/>
            <a:ext cx="2643120" cy="25700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14240" y="5214960"/>
            <a:ext cx="1913040" cy="1206360"/>
          </a:xfrm>
          <a:prstGeom prst="rightArrow">
            <a:avLst>
              <a:gd name="adj1" fmla="val 50000"/>
              <a:gd name="adj2" fmla="val 396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avokutnik 3"/>
          <p:cNvSpPr/>
          <p:nvPr/>
        </p:nvSpPr>
        <p:spPr>
          <a:xfrm>
            <a:off x="3857760" y="500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Porijeklo naziva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og mor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možda potječe od naziva strana svijeta po bojama u antičko doba, pri čemu je 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crna 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označavala</a:t>
            </a:r>
            <a:r>
              <a:rPr b="1" lang="hr-HR" sz="2000" spc="-1" strike="noStrike">
                <a:solidFill>
                  <a:srgbClr val="0070c0"/>
                </a:solidFill>
                <a:latin typeface="Arial"/>
              </a:rPr>
              <a:t> sjever,</a:t>
            </a:r>
            <a:r>
              <a:rPr b="0" lang="hr-HR" sz="2000" spc="-1" strike="noStrike">
                <a:solidFill>
                  <a:srgbClr val="0070c0"/>
                </a:solidFill>
                <a:latin typeface="Arial"/>
              </a:rPr>
              <a:t> a crvena j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factoidz.com/images/user/800px-Black_Sea_Nasa_May_25_2004.jpg"/>
          <p:cNvPicPr/>
          <p:nvPr/>
        </p:nvPicPr>
        <p:blipFill>
          <a:blip r:embed="rId2"/>
          <a:stretch/>
        </p:blipFill>
        <p:spPr>
          <a:xfrm>
            <a:off x="4000680" y="2428920"/>
            <a:ext cx="4143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o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>
            <a:hlinkClick r:id="rId5" action="ppaction://hlinksldjump"/>
          </p:cNvPr>
          <p:cNvSpPr/>
          <p:nvPr/>
        </p:nvSpPr>
        <p:spPr>
          <a:xfrm flipH="1">
            <a:off x="-720" y="3068640"/>
            <a:ext cx="4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3000600" cy="3476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" action="ppaction://hlinkshowjump?jump=nextslide"/>
          </p:cNvPr>
          <p:cNvSpPr/>
          <p:nvPr/>
        </p:nvSpPr>
        <p:spPr>
          <a:xfrm>
            <a:off x="428760" y="5072040"/>
            <a:ext cx="2143080" cy="1206360"/>
          </a:xfrm>
          <a:prstGeom prst="rightArrow">
            <a:avLst>
              <a:gd name="adj1" fmla="val 50000"/>
              <a:gd name="adj2" fmla="val 39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86080" y="104508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 Bosporu se nalazi tursk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anbul koji se nalazi i u Europi i Az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:\bospor_1.jpg"/>
          <p:cNvPicPr/>
          <p:nvPr/>
        </p:nvPicPr>
        <p:blipFill>
          <a:blip r:embed="rId2"/>
          <a:stretch/>
        </p:blipFill>
        <p:spPr>
          <a:xfrm>
            <a:off x="3500280" y="2643120"/>
            <a:ext cx="4710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284720" y="33192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eski 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 rot="16200000">
            <a:off x="2862000" y="3985920"/>
            <a:ext cx="100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niOkvir 8">
            <a:hlinkClick r:id="rId1" action="ppaction://hlinksldjump"/>
          </p:cNvPr>
          <p:cNvSpPr/>
          <p:nvPr/>
        </p:nvSpPr>
        <p:spPr>
          <a:xfrm>
            <a:off x="357120" y="264312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sia-imag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76500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>
            <a:hlinkClick r:id="rId4" action="ppaction://hlinksldjump"/>
          </p:cNvPr>
          <p:cNvSpPr/>
          <p:nvPr/>
        </p:nvSpPr>
        <p:spPr>
          <a:xfrm>
            <a:off x="1042920" y="5084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rId5" action="ppaction://hlinksldjump"/>
          </p:cNvPr>
          <p:cNvSpPr/>
          <p:nvPr/>
        </p:nvSpPr>
        <p:spPr>
          <a:xfrm flipH="1">
            <a:off x="285840" y="3929040"/>
            <a:ext cx="42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600px-No-Symbol"/>
          <p:cNvPicPr/>
          <p:nvPr/>
        </p:nvPicPr>
        <p:blipFill>
          <a:blip r:embed="rId1"/>
          <a:stretch/>
        </p:blipFill>
        <p:spPr>
          <a:xfrm>
            <a:off x="3203640" y="69228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" action="ppaction://hlinkshowjump?jump=previousslide"/>
          </p:cNvPr>
          <p:cNvSpPr/>
          <p:nvPr/>
        </p:nvSpPr>
        <p:spPr>
          <a:xfrm>
            <a:off x="3780000" y="3933720"/>
            <a:ext cx="1800000" cy="251964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1:03:03Z</dcterms:created>
  <dc:creator>Marina</dc:creator>
  <dc:description/>
  <dc:language>en-US</dc:language>
  <cp:lastModifiedBy>Geografija</cp:lastModifiedBy>
  <dcterms:modified xsi:type="dcterms:W3CDTF">2011-11-18T11:40:11Z</dcterms:modified>
  <cp:revision>23</cp:revision>
  <dc:subject/>
  <dc:title>Slide 1</dc:title>
</cp:coreProperties>
</file>